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09C-9656-4D9F-8CC6-402E7F53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FE1-65FD-4161-A196-789B0479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F0A-B351-43C2-B2C0-970353E5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AAE-B092-496E-B5A5-37C4C538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1A7-69D5-4874-A4E8-8EDACBF6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0DB-7BB4-4F91-895C-37F0A01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D46D-5638-43BE-BBA7-BEE2F537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13A-6738-430A-A1AD-2C0423E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BB6-FF46-4659-8055-F95221ED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8F3-53D0-4C42-8FEC-CB3A684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1A7-E18A-42AA-9B44-E833245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BAB-0C24-4038-A5B7-D3D51974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E21-41D5-4DA4-954F-4E20207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04A7-0D92-448A-9102-9E90D590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5EC4-4273-4874-97FA-9653E16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64F6-A92E-4C3C-9624-8D9C4935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6A10-E942-4621-981B-8B56BC22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A45-C0F0-4A10-B8B8-957C1314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A06-26DE-45BB-97E1-D691F498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121-3E20-4A77-B1CC-1D417324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415-68D5-428D-BE6B-9556AF9D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550-32BF-48CC-82CA-6FDDFE70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B69-6C33-4FC6-87FD-F95DCC3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CF0-E35B-40D7-95F0-A121405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949-0B9A-47A1-8F58-CC3A679C93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E21B-C6D5-4CF5-B521-C063527B73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8:55Z</dcterms:created>
  <dc:creator>Spiro13</dc:creator>
  <dc:description/>
  <dc:language>en-US</dc:language>
  <cp:lastModifiedBy>Spiro13</cp:lastModifiedBy>
  <dcterms:modified xsi:type="dcterms:W3CDTF">2009-01-03T09:33:37Z</dcterms:modified>
  <cp:revision>2</cp:revision>
  <dc:subject/>
  <dc:title>Slide 1</dc:title>
</cp:coreProperties>
</file>