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7DD-A154-4A02-98CD-FE2D950E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BEE-4A6D-48D4-9AB3-4A2D81BF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C41-BCF3-4EC1-A87E-CCA32073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6F6-A569-4E6D-9B22-2C310872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001F-9C79-4F5E-B58E-1F6AC7F9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19A8-C832-42D8-B965-A2FCE5B3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BCB8-7520-4838-9BF0-65EDA670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4AA2-76B4-4F1B-A57C-41C80B62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D810-CC77-4F67-B61E-B692EDC1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893C-6921-45E5-8626-AF85B195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7E11-7F07-4472-A0A3-48314A89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830-3CE0-4710-BE69-BD4FDEE7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CA68-B3C8-430F-9341-E14C6777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1222-3927-4509-B557-30AE7C53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53DF-C51F-4A20-83F8-7246E215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D6E9-C476-4FCC-9406-A9CB023B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5974-B6EB-4CF7-B259-F63A0FF6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95F-7801-4F96-94B1-B620AA39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F31-ACE3-45AC-8848-970DF754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443-CBD0-4F65-9EBE-8913C9FE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E5F-15CD-418C-92A4-5041F6EC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C78-E854-4B11-9851-D734EB06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D90C-BD3A-4F1E-AE7A-39A13E94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90D-A7E3-4045-BCC9-E87F5872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2AE9-D24A-4753-98D0-978DDE9DD3C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4BA0-4D41-4A59-A249-3961DD85804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07:40:12Z</dcterms:created>
  <dc:creator>Spiro13</dc:creator>
  <dc:description/>
  <dc:language>en-US</dc:language>
  <cp:lastModifiedBy>Spiro13</cp:lastModifiedBy>
  <dcterms:modified xsi:type="dcterms:W3CDTF">2009-01-03T09:33:54Z</dcterms:modified>
  <cp:revision>2</cp:revision>
  <dc:subject/>
  <dc:title>Slide 1</dc:title>
</cp:coreProperties>
</file>