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B55-29E6-4E6E-B061-5B923671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4CD-4315-446E-9E71-E4B8016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629-6F13-418C-9165-62F5A06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C00-63E2-4AB4-B56A-B1A529B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47C-877F-4ADB-A017-45091DD5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3C7-05F3-4A97-9EE6-B59A480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0691-66F5-435F-9DF8-E626874A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8D26-0A97-42B0-91FC-D8D1492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D9F-3973-4789-85E9-7EF0F93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2D7-A186-42B6-8633-BB7650EF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5552-3E57-41F9-80EC-7A54966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1F3-4266-4FF5-9558-B3A2209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058A-5765-4BC8-A25A-B779D3F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C7B-CC92-48C9-8C2F-292A021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C47-03A0-4E3D-9C6A-B60E3374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5BC5-E9B7-4DDB-837B-1E1DA0CA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3D1-1D21-4BE5-9900-482F2C8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90A-B747-447E-85DD-D10E61F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F5C-B51C-4173-AA80-7357BDB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67D-9000-460E-820C-93ACDB7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B46-621B-483E-B9CC-D6FF7B6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6B3-279F-49F0-9829-0A6E929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C69-55B4-4208-BD57-3C56581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342-A613-4B24-8686-C888AA1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0BF-1F55-4DFE-A3E6-F4442871A7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038-871D-43B4-BF9C-E445090769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9:37Z</dcterms:created>
  <dc:creator>Spiro13</dc:creator>
  <dc:description/>
  <dc:language>en-US</dc:language>
  <cp:lastModifiedBy>Spiro13</cp:lastModifiedBy>
  <dcterms:modified xsi:type="dcterms:W3CDTF">2009-01-03T09:33:47Z</dcterms:modified>
  <cp:revision>2</cp:revision>
  <dc:subject/>
  <dc:title>Slide 1</dc:title>
</cp:coreProperties>
</file>